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CCAD-F67F-4B3E-A0CC-2F7B42C71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D75D-690F-4E52-80E5-3D4C48526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A7EA-DB08-4F8C-8129-B30BD7526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EB26-02A5-4FFE-992C-D92102CCA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6C4B-A0D5-441A-9232-A196AC94D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7FF8-07F2-40A5-A315-AFA3DE16B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F301-4D18-403F-93CD-B0E1E6E66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03B9-40FB-49BB-891A-9894A6541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B766-7A35-49D3-BD95-8E537C20D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98ED-0446-436C-B909-101FAE663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3BB2-FA40-4529-8BE2-9419C6E8D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7075-909C-4902-9BEF-931D2CE6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7F2ED-C7AE-45B7-9EB5-4FF14021E5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91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09880" y="3917880"/>
            <a:ext cx="660600" cy="577800"/>
          </a:xfrm>
          <a:custGeom>
            <a:avLst/>
            <a:gdLst/>
            <a:ahLst/>
            <a:rect l="l" t="t" r="r" b="b"/>
            <a:pathLst>
              <a:path w="416" h="364">
                <a:moveTo>
                  <a:pt x="208" y="354"/>
                </a:moveTo>
                <a:lnTo>
                  <a:pt x="0" y="100"/>
                </a:lnTo>
                <a:lnTo>
                  <a:pt x="124" y="0"/>
                </a:lnTo>
                <a:lnTo>
                  <a:pt x="416" y="364"/>
                </a:lnTo>
              </a:path>
            </a:pathLst>
          </a:custGeom>
          <a:noFill/>
          <a:ln w="442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43240" y="4479840"/>
            <a:ext cx="314640" cy="149400"/>
          </a:xfrm>
          <a:custGeom>
            <a:avLst/>
            <a:gdLst/>
            <a:ahLst/>
            <a:rect l="l" t="t" r="r" b="b"/>
            <a:pathLst>
              <a:path w="198" h="94">
                <a:moveTo>
                  <a:pt x="198" y="2"/>
                </a:moveTo>
                <a:lnTo>
                  <a:pt x="78" y="94"/>
                </a:lnTo>
                <a:lnTo>
                  <a:pt x="0" y="0"/>
                </a:lnTo>
              </a:path>
            </a:pathLst>
          </a:cu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015520" y="4049640"/>
            <a:ext cx="3102120" cy="99216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d Lines Depict Traffic Patte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 Tower Controlled Class D Air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lue Lines Depict Traffic Patte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 Restricted Air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04:04:19Z</dcterms:created>
  <dc:creator>HP Authorized Customer</dc:creator>
  <dc:description/>
  <dc:language>en-US</dc:language>
  <cp:lastModifiedBy>HP Authorized Customer</cp:lastModifiedBy>
  <dcterms:modified xsi:type="dcterms:W3CDTF">2006-03-04T20:22:48Z</dcterms:modified>
  <cp:revision>8</cp:revision>
  <dc:subject/>
  <dc:title>Slide 1</dc:title>
</cp:coreProperties>
</file>